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5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E464B-3BA6-47FA-B356-495BFCD58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5643B-BF00-4C75-B798-A4FD962EF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54F72-1AFF-4F9B-8756-CD7EDA7B1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3525D-F555-4D81-8AE1-F268F8AC6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DFB42-2FF4-4729-B810-D7D2C9FFC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CA9A5-2F4A-4BDE-A28B-D76D641F0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4D243-1837-49F8-9A53-F4C8CAF0B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83E41-178C-4364-8D95-2C603EE1E1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F77D9-EAB2-4D14-B202-25D5E5369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18EFD-FE1F-4E7C-ABFD-683B391E4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55CF0-23F8-4FA9-B016-85C302F7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A0ABF-6DFF-4535-9DE3-BA8DFA8A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0D7D0-23E2-498A-9886-6953AC43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B79D1-0F2D-49D0-BDF5-4AB39257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C5392-275B-4B08-B8E3-07F960BE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A1004-EAE2-43E7-8057-EE8176AE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C4344-0A7D-4383-96D4-352C953D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40452-63A3-4390-BDE3-B23C947F1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D94CB-57FE-42E0-8AC0-8A331DD1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C0221-A79E-4FF8-994B-72979E21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4FF7E-1CD4-49E2-8F3B-D5A67F33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B920D-5CCE-426C-8D47-9F9B9F67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E3BA6-D0B4-4790-A98B-277B0B3F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8E2E3-C4E1-4E94-A1AC-0D81A95BD67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19D14-44D5-4D4D-9043-5028D087A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1328F-C31B-496A-A98E-A7E0F23F1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4D19-2746-4FBB-890F-9280FC760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4231A-A870-412C-9126-77014381D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27B9E-78FD-4D6B-9E32-433613CA2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7D61-EC06-4532-B6AC-352B8172F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7149960"/>
            <a:ext cx="10080720" cy="3096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81820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2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3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4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5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6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04280" y="7195680"/>
            <a:ext cx="10699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AC897FC3-26CA-4473-A16F-0042A86489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8799480" y="438120"/>
            <a:ext cx="825480" cy="986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503280" y="7196040"/>
            <a:ext cx="7864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"/>
          <p:cNvSpPr/>
          <p:nvPr/>
        </p:nvSpPr>
        <p:spPr>
          <a:xfrm>
            <a:off x="503280" y="7164360"/>
            <a:ext cx="5905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&lt;codigo-disciplina/nome-evento&gt; – &lt;nome-professor-palestran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0632A-1032-43C1-919B-3B8292DE3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ítulo-da-aula/palestra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nome-do-professor/apresentado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código-da-disciplina&gt; – &lt;nome-da-disciplina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-do-professor&gt;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B7CA5E44-0476-44DB-BC17-776C33F2F1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título-do-slid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sngStrike" u="sng">
                <a:solidFill>
                  <a:srgbClr val="000000"/>
                </a:solidFill>
                <a:uFillTx/>
                <a:latin typeface="Titillium Web"/>
              </a:rPr>
              <a:t>&lt;subitem&gt;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sngStrike" u="sng">
                <a:solidFill>
                  <a:srgbClr val="000000"/>
                </a:solidFill>
                <a:uFillTx/>
                <a:latin typeface="Titillium Web"/>
              </a:rPr>
              <a:t>&lt;subitem&gt;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tillium Web"/>
            </a:endParaRPr>
          </a:p>
          <a:p>
            <a:pPr lvl="2" marL="1295280" indent="-28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subsubitem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subsubitem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5EA4CC82-7DFC-47B9-8244-680FEC82FA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slide-com-código-font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 fontScale="92000"/>
          </a:bodyPr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int main() {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60c9"/>
                </a:solidFill>
                <a:latin typeface="Ubuntu Mono"/>
              </a:rPr>
              <a:t>printf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60c9"/>
                </a:solidFill>
                <a:latin typeface="Ubuntu Mono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2600" y="12600"/>
            <a:ext cx="10036440" cy="752976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2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76B6FEC5-3340-4724-B722-626CC1B6BA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-9360" y="430200"/>
            <a:ext cx="10094760" cy="100656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85400"/>
            <a:ext cx="81835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swald Regular"/>
              </a:rPr>
              <a:t>Slide 2.0 (fotos CC → unsplash.com)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9282240" y="525600"/>
            <a:ext cx="68400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itulo-(somente-palestras)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per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nome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/twitter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4T14:37:15Z</dcterms:created>
  <dc:creator/>
  <dc:description/>
  <cp:keywords/>
  <dc:language>en-US</dc:language>
  <cp:lastModifiedBy>Renato Novais</cp:lastModifiedBy>
  <dcterms:modified xsi:type="dcterms:W3CDTF">2017-05-05T00:49:39Z</dcterms:modified>
  <cp:revision>25</cp:revision>
  <dc:subject/>
  <dc:title>PowerPoint Presentation</dc:title>
</cp:coreProperties>
</file>