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6EA67-1C17-4754-9117-088F98DC7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303B8-FF7A-4B72-A89A-A9ACF3C43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B3245-0863-43D8-847C-8BA7076DB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1E180-EFD1-46B8-A2AD-83D5E3C09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5CE33-9A57-4CAE-8045-01A099FAF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ABF27-BD6A-413D-BAB1-EB823FA84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0418-524E-4F73-998A-5DA95E5BF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4EE5-3300-4AFC-A5B6-DB376E974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15FA-FA2C-4C6D-8F95-C976A82E4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F97C-1F6F-4DB0-A7FE-EBECA0322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54EE3-61F3-4694-B1F1-D4691A8A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AF321-F4C2-4E77-AE2F-D1F611B2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0CC7C-2638-4E9D-955F-B09E90BB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1C147-2736-4C32-AE33-97CD36C9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19847-5A2D-4158-9300-7D712BD4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420A3-062E-4B80-A3B5-EFF27CC6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203D1-BC5D-4EF7-8617-B042E204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CC09-E5FE-4068-A06A-33075F3B3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04F7C-0ACA-459F-B71B-7D52A4B9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12B94-C725-4738-BAD8-E029F903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076F5-5E6A-4DB5-872D-03A06CFD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7708D-F910-4DA7-8469-83E8E52D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B8888-2628-41F6-A8D1-4F6AF461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3E2D-D8FC-41B0-BE01-8AEB373F05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A2CD-C4C9-4080-AB63-8B882D3BE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002C-7801-438C-A907-3B5FACEAC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9D8E-2E53-4649-84E7-E7B6382DE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7402-A484-49E9-81DC-62F9020AB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7CDE-724C-4662-8604-1562A006B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4BB6-69CA-4A8A-ABE3-DCD73AAD3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 marL="12384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 marL="16956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06E7BCEF-F18D-4F89-8F4B-9BB62F447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8711F-4B95-45FA-A7DF-12FE75237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16CD8582-1884-4758-8881-E1C6B673F7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E396FF8A-BE18-4180-B153-0F6DA7C902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9387CCC5-86D8-4CDA-9F7C-5456F959D7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9T11:56:22Z</dcterms:modified>
  <cp:revision>26</cp:revision>
  <dc:subject/>
  <dc:title>PowerPoint Presentation</dc:title>
</cp:coreProperties>
</file>