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3FDA0-0357-41C6-9438-620EB2DF5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9222B-555E-4000-8D10-719EEF15D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F51D7-7F07-44E4-8A37-E623FA9E4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0A97C-06F7-41E1-9256-A2B2D8EFC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8B48A-8483-4A40-B34A-1C6E1370B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0E8B4-8988-4316-98F6-C43E73A93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9B5F-8BAC-4F38-9912-F9E12A615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013B-5780-4366-BE35-52D73771D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67F2-277E-41EF-A7B6-8941082BA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D93F-AE69-4131-A274-EE087BB93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81233-5449-447B-BA5F-7C77FBA0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31900-122D-4A9B-883A-220358D5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90F78-0E5E-4562-A024-521E37F4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10D27-6CEA-4EE6-A57C-117F7476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C056C-266B-4E90-AE3C-7D467FF4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18029-732B-4BC4-899E-D87C594E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D9420-D81F-4476-9F4A-0D527360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7D52-88AF-45EC-8894-334DCE387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39F57-CA8A-441B-A946-AE02AA12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8B192-FB41-42BF-AF5D-DED51E76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9B1BB-B14D-4AE1-9EE1-F3143D07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7BDA7-8F8D-4CD0-8A68-D3BA28C2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C1D8B-C020-4F2C-BC12-B5DA16A5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3569-11CC-4840-8530-9CBAA11DF0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3BAD-5C52-4193-B33C-17B995C7A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42B9-D412-408E-847C-D24806525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6987-EED4-4D0F-86E8-9EB6EAD60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B668-15B0-41B0-84F9-3B47DBDBA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D63F-837E-426B-8238-267BA4354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7F79-C746-459B-B9CD-E6E7D6A32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3DD2861-AB02-47CA-B940-7F2C9B002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B29D5-6348-4AD8-85C9-5B93F4AEC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55109B45-35DE-4143-BF60-CE8B9E571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66D285DD-CAD1-4EA4-9B25-1EDE2998D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 fontScale="92000"/>
          </a:bodyPr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60D7F69-6875-4714-98AD-5172C0F35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5T00:49:39Z</dcterms:modified>
  <cp:revision>25</cp:revision>
  <dc:subject/>
  <dc:title>PowerPoint Presentation</dc:title>
</cp:coreProperties>
</file>