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307D3-BBD7-4856-A148-F6AA480AC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08FE2-CA10-4DB7-B7FA-78D794942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94DDE-91A6-46BF-AE18-94B65CA9C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5193F-C451-42A7-90C8-EA678FB0C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4B4B4-4797-46C0-A454-DB6F498AA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2D3EC-D1D4-441A-80CE-D59CDC25B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EDFD-21B4-458E-993C-68B57F706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E9AC-C26C-4053-8F5F-762EE6F7B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9755-2FF2-4066-A674-D11B22423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FB16-A52B-4657-B9D2-9BD018675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2FC83-1E13-4839-8A2A-C0FDBA24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68E19-D107-4013-BDB0-7306A1FE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F70E2-678D-4262-B7E2-8E80A5DD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8FA04-6550-4F70-A24D-4D492B82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3FBC0-D941-47EF-A0B1-8D0919BB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269E6-2068-42BE-A64A-83DB6EE5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17AF3-624D-4584-99D9-E8504F3A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0B3C-3826-42FE-AEFA-D630383A8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14C53-606E-4CBE-9DA1-42B83170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BF982-3D4C-4C39-8E0F-77A9D613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18E82-A956-45DA-9CD4-8286B65B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67A80-8040-4090-93FE-727E3969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F7C99-391A-444E-96E1-D6B7F299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62AF-FF1E-4083-9032-C992F4ACF2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1CA6-CA97-4C07-9E30-AE424A8CD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7E10-282E-4F47-985A-41258FEAA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FA9C-1E09-429A-93A0-F41F87993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9D99-B852-4689-9F6D-FF093A068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084A-3506-4AA2-8FE1-0EA6AC26D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8B0F-B7BE-4759-B7D9-8048BD1EC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FD9E4064-75D2-45D8-AB03-DBCF59E02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E5CAF-499D-48F8-B991-C904FE5C0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DA61DAB-C685-4139-98AA-182ABC96D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sngStrike" u="sng">
                <a:solidFill>
                  <a:srgbClr val="000000"/>
                </a:solidFill>
                <a:uFillTx/>
                <a:latin typeface="Titillium Web"/>
              </a:rPr>
              <a:t>&lt;subitem&gt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sngStrike" u="sng">
                <a:solidFill>
                  <a:srgbClr val="000000"/>
                </a:solidFill>
                <a:uFillTx/>
                <a:latin typeface="Titillium Web"/>
              </a:rPr>
              <a:t>&lt;subitem&gt;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Titillium Web"/>
            </a:endParaRPr>
          </a:p>
          <a:p>
            <a:pPr lvl="2" marL="1295280" indent="-28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ubsubite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ubsubitem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8848F3D2-305A-4BA5-8920-10E7C98D5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 fontScale="92000"/>
          </a:bodyPr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397080" indent="-297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800" spc="-1" strike="noStrike">
                <a:solidFill>
                  <a:srgbClr val="0060c9"/>
                </a:solidFill>
                <a:latin typeface="Ubuntu Mono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  <a:p>
            <a:pPr marL="216000" indent="-216000">
              <a:lnSpc>
                <a:spcPct val="94000"/>
              </a:lnSpc>
              <a:buClr>
                <a:srgbClr val="3a3a3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6B3505D6-33B5-426F-A182-F60CFAA04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5T00:49:39Z</dcterms:modified>
  <cp:revision>25</cp:revision>
  <dc:subject/>
  <dc:title>PowerPoint Presentation</dc:title>
</cp:coreProperties>
</file>